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1544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5772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316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1544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5772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1000" y="104760"/>
            <a:ext cx="88423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17280" cy="6862680"/>
          </a:xfrm>
          <a:custGeom>
            <a:avLst/>
            <a:gdLst/>
            <a:ahLst/>
            <a:rect l="l" t="t" r="r" b="b"/>
            <a:pathLst>
              <a:path w="6246" h="4323">
                <a:moveTo>
                  <a:pt x="0" y="4320"/>
                </a:moveTo>
                <a:lnTo>
                  <a:pt x="0" y="2"/>
                </a:lnTo>
                <a:lnTo>
                  <a:pt x="581" y="0"/>
                </a:lnTo>
                <a:lnTo>
                  <a:pt x="576" y="4173"/>
                </a:lnTo>
                <a:lnTo>
                  <a:pt x="6246" y="4176"/>
                </a:lnTo>
                <a:lnTo>
                  <a:pt x="6246" y="4323"/>
                </a:lnTo>
                <a:lnTo>
                  <a:pt x="0" y="4320"/>
                </a:lnTo>
                <a:close/>
              </a:path>
            </a:pathLst>
          </a:custGeom>
          <a:solidFill>
            <a:srgbClr val="e0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577800" indent="-28872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2" marL="1184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3" marL="160344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7080"/>
            <a:ext cx="90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CED1-32F3-4EB5-8AE4-5BC9D512A447}" type="slidenum">
              <a:rPr b="1" lang="it-IT" sz="1800" spc="-1" strike="noStrike">
                <a:solidFill>
                  <a:srgbClr val="fffff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05760" y="5827680"/>
            <a:ext cx="1600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2280"/>
            <a:ext cx="990612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15840"/>
            <a:ext cx="990576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57400" y="6593040"/>
            <a:ext cx="797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Unicode"/>
              </a:rPr>
              <a:t>Dipartimento di Napoli -Dipartimento Processi Organizzati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IL RISCHIO ELETTRICO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39800" y="1413000"/>
            <a:ext cx="7128000" cy="499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065240" y="765000"/>
            <a:ext cx="82090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vete mai giocato così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GLI ELABORATI DOCUMENTALI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1065240" y="1052640"/>
            <a:ext cx="4248000" cy="131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Comic Sans MS"/>
              </a:rPr>
              <a:t>IL DV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1240" y="2924280"/>
            <a:ext cx="3600360" cy="1311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IL P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0743800">
            <a:off x="1136520" y="2276640"/>
            <a:ext cx="3345120" cy="33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2485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92520" y="4797360"/>
            <a:ext cx="531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tudenti formati parteciperanno alla prova di evacuazione con compiti ben precisi (aprifila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Comic Sans MS"/>
              </a:rPr>
              <a:t>Prossimamente su questi schermi….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9" name=""/>
          <p:cNvSpPr/>
          <p:nvPr/>
        </p:nvSpPr>
        <p:spPr>
          <a:xfrm>
            <a:off x="920880" y="907920"/>
            <a:ext cx="74167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elementare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Liceo classico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8520" y="3141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0" y="98100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97240" y="5373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9400" y="907200"/>
            <a:ext cx="440208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cartellone esemplific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delle principali font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4520" y="2924280"/>
            <a:ext cx="453708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’albero della prev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81600" y="5157720"/>
            <a:ext cx="460836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gli elaborati DVR e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60200" y="0"/>
            <a:ext cx="10066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36520" y="1844640"/>
            <a:ext cx="7632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6093000"/>
            <a:ext cx="54831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Lucida Sans Unicode"/>
              </a:rPr>
              <a:t>Dott.ssa Maria Giovanna Dovetto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0160" y="189000"/>
            <a:ext cx="4665600" cy="1718280"/>
            <a:chOff x="200160" y="189000"/>
            <a:chExt cx="4665600" cy="1718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00160" y="189000"/>
              <a:ext cx="365760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54120" y="1601640"/>
              <a:ext cx="33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6699"/>
                  </a:solidFill>
                  <a:latin typeface="Lucida Sans Unicode"/>
                </a:rPr>
                <a:t>Dipartimento di Napo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88880" y="1989000"/>
            <a:ext cx="8925120" cy="136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PILOTA DI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FORMAZIONE IN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“SCUOLA SICU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24160" y="4005360"/>
            <a:ext cx="3313080" cy="1890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IL TERRITORIO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"/>
          <p:cNvSpPr/>
          <p:nvPr/>
        </p:nvSpPr>
        <p:spPr>
          <a:xfrm>
            <a:off x="1424160" y="836640"/>
            <a:ext cx="7416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49240" y="692280"/>
            <a:ext cx="5904000" cy="590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5400000">
            <a:off x="7688520" y="1484640"/>
            <a:ext cx="1008360" cy="2737080"/>
          </a:xfrm>
          <a:prstGeom prst="downArrowCallout">
            <a:avLst>
              <a:gd name="adj1" fmla="val 25002"/>
              <a:gd name="adj2" fmla="val 25000"/>
              <a:gd name="adj3" fmla="val 45240"/>
              <a:gd name="adj4" fmla="val 6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4320" y="2363760"/>
            <a:ext cx="167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Quart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hia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619600">
            <a:off x="2936520" y="1629000"/>
            <a:ext cx="1008000" cy="792000"/>
          </a:xfrm>
          <a:prstGeom prst="leftArrow">
            <a:avLst>
              <a:gd name="adj1" fmla="val 50000"/>
              <a:gd name="adj2" fmla="val 3181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1000" y="-17640"/>
            <a:ext cx="8842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E SCUO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"/>
          <p:cNvSpPr/>
          <p:nvPr/>
        </p:nvSpPr>
        <p:spPr>
          <a:xfrm>
            <a:off x="200160" y="765000"/>
            <a:ext cx="2736720" cy="1368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1125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ceo classico “Umberto 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0160" y="1484280"/>
            <a:ext cx="2736720" cy="12240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4520" y="1628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uola Media “Tito Liv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6120" y="692280"/>
            <a:ext cx="2880000" cy="1512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6120" y="1197000"/>
            <a:ext cx="2880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cuola elementare “E.De Amic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007800" y="475560"/>
            <a:ext cx="3745080" cy="865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205000"/>
            <a:ext cx="272088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76640"/>
            <a:ext cx="31669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mbiente scolastico come luog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entificazione e monitoraggio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dazione di elaborati tecnici (DVR e P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2120" y="2349360"/>
            <a:ext cx="266400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29600" y="2421000"/>
            <a:ext cx="25765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il percorso casa/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sure preventive comportamen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2520" y="3084480"/>
            <a:ext cx="4392360" cy="3384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la palestra, la s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viduazione delle principali cause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lle opportune misure comportamentali prev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1000" y="-11520"/>
            <a:ext cx="8842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I PRINCIPALI ARGOMENTI</a:t>
            </a:r>
            <a:endParaRPr b="1" lang="en-US" sz="4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520" y="620640"/>
            <a:ext cx="8785080" cy="5904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1)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 sicurezza nei luoghi di vita e di lavoro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ndamenti normativi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2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li spostament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scuola, la casa, la strada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3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elettricità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chio elettrocuzione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4)</a:t>
            </a:r>
            <a:r>
              <a:rPr b="1" lang="it-IT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fuoco e l’acqu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incendio e allagament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5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’ergonomi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6699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6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 laborator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chimic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7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Documento di valutazione dei risch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8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l Piano di emergenz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10066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LA COMUNICAZION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784520" y="1413000"/>
            <a:ext cx="7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197000"/>
            <a:ext cx="2305080" cy="1368360"/>
          </a:xfrm>
          <a:custGeom>
            <a:avLst/>
            <a:gdLst>
              <a:gd name="textAreaLeft" fmla="*/ 88560 w 2305080"/>
              <a:gd name="textAreaRight" fmla="*/ 2216520 w 2305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6383" h="21600">
                <a:moveTo>
                  <a:pt x="0" y="0"/>
                </a:moveTo>
                <a:lnTo>
                  <a:pt x="36383" y="0"/>
                </a:lnTo>
                <a:lnTo>
                  <a:pt x="36383" y="21600"/>
                </a:lnTo>
                <a:lnTo>
                  <a:pt x="0" y="21600"/>
                </a:lnTo>
                <a:close/>
              </a:path>
              <a:path fill="lightenLess" w="36383" h="21600">
                <a:moveTo>
                  <a:pt x="0" y="0"/>
                </a:moveTo>
                <a:lnTo>
                  <a:pt x="36383" y="0"/>
                </a:lnTo>
                <a:lnTo>
                  <a:pt x="34983" y="1400"/>
                </a:lnTo>
                <a:lnTo>
                  <a:pt x="1400" y="1400"/>
                </a:lnTo>
                <a:close/>
              </a:path>
              <a:path fill="darken" w="36383" h="21600">
                <a:moveTo>
                  <a:pt x="36383" y="0"/>
                </a:moveTo>
                <a:lnTo>
                  <a:pt x="36383" y="21600"/>
                </a:lnTo>
                <a:lnTo>
                  <a:pt x="34983" y="20200"/>
                </a:lnTo>
                <a:lnTo>
                  <a:pt x="34983" y="1400"/>
                </a:lnTo>
                <a:close/>
              </a:path>
              <a:path fill="darkenLess" w="36383" h="21600">
                <a:moveTo>
                  <a:pt x="36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83" y="20200"/>
                </a:lnTo>
                <a:close/>
              </a:path>
              <a:path fill="lighten" w="36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383" h="21600">
                <a:moveTo>
                  <a:pt x="11185" y="7301"/>
                </a:moveTo>
                <a:lnTo>
                  <a:pt x="12099" y="7301"/>
                </a:lnTo>
                <a:lnTo>
                  <a:pt x="12482" y="7667"/>
                </a:lnTo>
                <a:lnTo>
                  <a:pt x="21690" y="7667"/>
                </a:lnTo>
                <a:lnTo>
                  <a:pt x="22247" y="8224"/>
                </a:lnTo>
                <a:lnTo>
                  <a:pt x="22247" y="8772"/>
                </a:lnTo>
                <a:lnTo>
                  <a:pt x="24092" y="8772"/>
                </a:lnTo>
                <a:lnTo>
                  <a:pt x="24458" y="8224"/>
                </a:lnTo>
                <a:lnTo>
                  <a:pt x="25198" y="8224"/>
                </a:lnTo>
                <a:lnTo>
                  <a:pt x="25198" y="13376"/>
                </a:lnTo>
                <a:lnTo>
                  <a:pt x="24458" y="13376"/>
                </a:lnTo>
                <a:lnTo>
                  <a:pt x="24092" y="12828"/>
                </a:lnTo>
                <a:lnTo>
                  <a:pt x="22247" y="12828"/>
                </a:lnTo>
                <a:lnTo>
                  <a:pt x="22247" y="14107"/>
                </a:lnTo>
                <a:lnTo>
                  <a:pt x="12664" y="14107"/>
                </a:lnTo>
                <a:lnTo>
                  <a:pt x="12664" y="9877"/>
                </a:lnTo>
                <a:lnTo>
                  <a:pt x="12482" y="9877"/>
                </a:lnTo>
                <a:lnTo>
                  <a:pt x="12099" y="10243"/>
                </a:lnTo>
                <a:lnTo>
                  <a:pt x="11185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36520" y="981000"/>
            <a:ext cx="2376720" cy="8240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ERCE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8434200">
            <a:off x="4304880" y="1341360"/>
            <a:ext cx="1079640" cy="1008000"/>
          </a:xfrm>
          <a:custGeom>
            <a:avLst/>
            <a:gdLst>
              <a:gd name="textAreaLeft" fmla="*/ 309960 w 1079640"/>
              <a:gd name="textAreaRight" fmla="*/ 924840 w 107964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6880" y="9079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</a:t>
            </a:r>
            <a:r>
              <a:rPr b="0" lang="it-IT" sz="2400" spc="-1" strike="noStrike">
                <a:solidFill>
                  <a:srgbClr val="003366"/>
                </a:solidFill>
                <a:latin typeface="Verdana"/>
              </a:rPr>
              <a:t> 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05600" y="220500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 S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1600" y="836640"/>
            <a:ext cx="2089080" cy="107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6880" y="2133720"/>
            <a:ext cx="2592360" cy="10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6880" y="3357720"/>
            <a:ext cx="784872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o sforzo educativo deve esser teso ad avvicin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a percezione soggettiva alla percezione ogg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28880" y="4653000"/>
            <a:ext cx="3168720" cy="45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Modulo cir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DIDATTICHE ATTIV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620640"/>
            <a:ext cx="8425080" cy="82404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roblem solving, brainstorming, disegno, role playing, videogi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4160" y="1700280"/>
            <a:ext cx="32400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ins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re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ess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peri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inc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amare la 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8160" y="1700280"/>
            <a:ext cx="914400" cy="48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84880" y="2133720"/>
            <a:ext cx="187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Verdana"/>
              </a:rPr>
              <a:t>II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spostarsi… in </a:t>
            </a:r>
            <a:r>
              <a:rPr b="1" i="1" lang="it-IT" sz="3200" spc="-1" strike="noStrike">
                <a:solidFill>
                  <a:srgbClr val="cc3300"/>
                </a:solidFill>
                <a:latin typeface="Comic Sans MS"/>
              </a:rPr>
              <a:t>prospettiva</a:t>
            </a: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 della sicurezza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9800" y="90792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68520" y="907920"/>
            <a:ext cx="7416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68520" y="907920"/>
            <a:ext cx="7416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800px-Piero_della_Francesca_Ideal_City"/>
          <p:cNvPicPr/>
          <p:nvPr/>
        </p:nvPicPr>
        <p:blipFill>
          <a:blip r:embed="rId1"/>
          <a:stretch/>
        </p:blipFill>
        <p:spPr>
          <a:xfrm>
            <a:off x="272880" y="1197000"/>
            <a:ext cx="9417240" cy="237816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920880" y="0"/>
            <a:ext cx="8985240" cy="579960"/>
          </a:xfrm>
          <a:prstGeom prst="rect">
            <a:avLst/>
          </a:prstGeom>
          <a:solidFill>
            <a:srgbClr val="ff9900"/>
          </a:solidFill>
          <a:ln w="38160">
            <a:solidFill>
              <a:srgbClr val="f6c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CITTA’ ID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92160" y="3789360"/>
            <a:ext cx="83534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onimo fiorentino, databile tra il 1480 e il 14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alleria Nazionale delle Marche 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216160" y="5104440"/>
            <a:ext cx="590544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 ora provateci voi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scuola ide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6:20:31Z</dcterms:created>
  <dc:creator>Maurizio Castagna</dc:creator>
  <dc:description/>
  <dc:language>en-US</dc:language>
  <cp:lastModifiedBy>ASYS</cp:lastModifiedBy>
  <cp:lastPrinted>2002-12-10T11:15:17Z</cp:lastPrinted>
  <dcterms:modified xsi:type="dcterms:W3CDTF">2010-01-19T10:17:46Z</dcterms:modified>
  <cp:revision>648</cp:revision>
  <dc:subject/>
  <dc:title>Analisi delle esigenze</dc:title>
</cp:coreProperties>
</file>